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5FCF-46B9-406B-9CB2-087F94DC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A3D-685C-4FAF-910B-52735318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775-89FB-44BF-A910-3BDB683D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079-DA1C-4D99-AB1E-7FF03BC1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CA9-1E30-46B9-A2DB-16EBB5AE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B237-18E3-4522-B8DB-B562D0E0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68A-56D9-42BF-BCA1-0245C260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79F-0A64-4897-A27C-1A370D3F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32E-DAD9-4C2A-82F4-9E4955D9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39E-D6BB-4139-8877-81C56586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EE6-A2AF-449A-9F51-181F30A0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D6D-EB57-4531-B2C5-E58EADD0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CECC-93E3-4E60-B991-9860B14DE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99"/>
                </a:solidFill>
                <a:latin typeface="Bodoni MT Poster Compressed"/>
              </a:rPr>
              <a:t>Reader-Response Theor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086600" y="5181480"/>
            <a:ext cx="1752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hris Pacileo and Brenna Ke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P Eng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Group Research and Presen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3/16/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MT Poster Compressed"/>
              </a:rPr>
              <a:t>What is Reader-Response Theor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focus on the r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regarding authors in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interpretation based on readers past experiences, literary and nonlite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791320" y="3200400"/>
            <a:ext cx="2219040" cy="3333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086600" y="2133720"/>
            <a:ext cx="2057400" cy="1447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2438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2666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w does this text relate to my previous experiences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doni MT Poster Compressed"/>
              </a:rPr>
              <a:t>Questions from the Read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9520" y="2209680"/>
            <a:ext cx="5334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questions asked by these think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es this text relate to my previous experienc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text I am interpreting effected by my previous knowledge of other reading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my personal experiences effecting how I interpret the text in this read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of a question they would not a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s the author coming from while writing this text, what is his/her mean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the author have a specific meaning hidden behind the tex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MT Poster Compressed"/>
              </a:rPr>
              <a:t>Advantage/Disadvant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733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ight/wrong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to own interpre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t exper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t rea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562360" y="13716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er vs. 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 answer vs. Wrong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ying interpre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ggle for correct insight of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33920" y="3733920"/>
            <a:ext cx="203832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doni MT Poster Compressed"/>
              </a:rPr>
              <a:t>Reader-Response Critiquing in the </a:t>
            </a:r>
            <a:r>
              <a:rPr b="0" i="1" lang="en-US" sz="6600" spc="-1" strike="noStrike">
                <a:solidFill>
                  <a:srgbClr val="000000"/>
                </a:solidFill>
                <a:latin typeface="Bodoni MT Poster Compressed"/>
              </a:rPr>
              <a:t>Pa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ious Valley Regional English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 usage of this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er-Response Theory beyond English class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3538440" cy="316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MT Poster Compressed"/>
              </a:rPr>
              <a:t>Literature and the Real Wor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doni MT Poster Compressed"/>
              </a:rPr>
              <a:t>Lord of the F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doni MT Poster Compressed"/>
              </a:rPr>
              <a:t>Catcher in the R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doni MT Poster Compressed"/>
              </a:rPr>
              <a:t>I.A. Rich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doni MT Poster Compressed"/>
              </a:rPr>
              <a:t>Louise Rosenbl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doni MT Poster Compressed"/>
              </a:rPr>
              <a:t>Stanley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doni MT Poster Compressed"/>
              </a:rPr>
              <a:t>interpretive” communit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doni MT Poster Compressed"/>
              </a:rPr>
              <a:t>Can be related anything, not just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1789200" cy="302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29400" y="3581280"/>
            <a:ext cx="17524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be0e3"/>
                </a:solidFill>
                <a:latin typeface="Bodoni MT Poster Compressed"/>
              </a:rPr>
              <a:t>How and Wher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3f8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3f8a6"/>
                </a:solidFill>
                <a:latin typeface="Bodoni MT Poster Compressed"/>
              </a:rPr>
              <a:t>Making connections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3f8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3f8a6"/>
                </a:solidFill>
                <a:latin typeface="Bodoni MT Poster Compressed"/>
              </a:rPr>
              <a:t>Paying attention to the surrou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3f8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3f8a6"/>
                </a:solidFill>
                <a:latin typeface="Bodoni MT Poster Compressed"/>
              </a:rPr>
              <a:t>The Reader response theory is used in everyda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7:20:51Z</dcterms:created>
  <dc:creator>bkelly</dc:creator>
  <dc:description/>
  <dc:language>en-US</dc:language>
  <cp:lastModifiedBy>bkelly</cp:lastModifiedBy>
  <dcterms:modified xsi:type="dcterms:W3CDTF">2009-03-10T17:07:52Z</dcterms:modified>
  <cp:revision>6</cp:revision>
  <dc:subject/>
  <dc:title>Reader-Response Theory</dc:title>
</cp:coreProperties>
</file>